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3349-0ECA-430E-8CD8-AF24A342B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2122-5327-4B2C-AAEA-893231893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864C-55D5-4625-A3C1-8DACE0F8A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DBA8-111B-4678-8A38-2297AB8E8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8388-99ED-48A6-9561-12AEB1271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410E-9C4B-4FC4-B8F3-822218DDD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E94C-9873-4551-9D25-D356F1814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02C9-5FD2-4EF4-B9FB-3FE303EDF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EEF8-CE63-43E5-B900-AB5D76BA7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5B7-74B8-470D-BE84-A4C2FB77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096-C991-4EC7-BC27-9E0A9A79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429-695C-4561-A26D-2BE6C5C0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6AD-47F4-4638-8B7A-AF3FEC11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C07-0ACE-4CE3-922C-F5C27400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1E8-A8CD-4662-8C9C-5E604DC1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618-A377-4606-98F8-C5B97D6F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771-9EF1-4C45-BB45-CB5E1286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1C2-BD5B-4ED1-BA20-8DF8442A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1D9-B2BF-4BA9-AA29-2010701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253-88D5-443F-BE52-CF2A0D4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BE0-809C-4832-BA3A-249DCEB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550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4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B87E-5610-4A8E-AF80-475D646D9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. Julie Libarkin, Nicole LaDue: IN-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 Dr. Duncan Sibley ON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YLLABUS is posted on ANGEL – READ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YBRID! Lectures are ONLINE. Activities for one hour in each week IN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for completing activities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Homework: TWO types on ANG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LECTURE: Due weekly BEFORE each class meeting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CLASS: Due weekly three days after class - FRIDAYS.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Exams: Two in-class exams and a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6. When molecules move faster,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ns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 most substances decreases. Water is an anomaly because liquid water is more dense than ice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304920" y="16714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How does increasing temperature cause decreasing dens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6400800"/>
            <a:ext cx="396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blank005.tripod.com/geology/graphic/tectonics/beaker.g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convectionbeaker.gif"/>
          <p:cNvPicPr/>
          <p:nvPr/>
        </p:nvPicPr>
        <p:blipFill>
          <a:blip r:embed="rId1"/>
          <a:stretch/>
        </p:blipFill>
        <p:spPr>
          <a:xfrm>
            <a:off x="5181480" y="1371600"/>
            <a:ext cx="3403800" cy="5105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457200" y="4419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Increasing temperature causes molecules to move faster, spread out and for the density of decre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7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uoya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uses materials to rise or fall due to the relative density of materials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Q. How does buoyancy make things floa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0" y="5734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The density of the object is compared to the density of the fluid it is immersed in.  If the object is less dense than the fluid, it will r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7010280" y="449568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en.wikipedia.org/wiki/File:Buoyancy.sv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6" descr="500px-Buoyancy.png"/>
          <p:cNvPicPr/>
          <p:nvPr/>
        </p:nvPicPr>
        <p:blipFill>
          <a:blip r:embed="rId1"/>
          <a:stretch/>
        </p:blipFill>
        <p:spPr>
          <a:xfrm>
            <a:off x="2666880" y="16765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8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edback Loop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n accelerate, decelerate, or dampen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Posi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the system causes further changes in the system such that some component in the system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increases overall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ad"/>
                </a:solidFill>
                <a:latin typeface="Arial"/>
              </a:rPr>
              <a:t>Negative feedback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: a change in a system causes and opposite response in the system such that the system is </a:t>
            </a:r>
            <a:r>
              <a:rPr b="0" i="1" lang="en-US" sz="2200" spc="-1" strike="noStrike">
                <a:solidFill>
                  <a:srgbClr val="0000ad"/>
                </a:solidFill>
                <a:latin typeface="Arial"/>
              </a:rPr>
              <a:t>closer to equilibrium</a:t>
            </a:r>
            <a:r>
              <a:rPr b="0" lang="en-US" sz="2200" spc="-1" strike="noStrike">
                <a:solidFill>
                  <a:srgbClr val="0000ad"/>
                </a:solidFill>
                <a:latin typeface="Arial"/>
              </a:rPr>
              <a:t>.  In this case, the negative feedback component will decrease the size of the changes going on in the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 work &amp; Homework: Introduc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378000" y="1212840"/>
            <a:ext cx="85406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 203A section 74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Chan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tting Orga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First, we would like you to complete a questionnair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So…find someone with a FOLDER. Get into groups of FO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name on the inside cover of the folder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Student ID if you have it (bring it next time)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IZE THE FOLDER LETTER!</a:t>
            </a: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4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Begin the “Analogy Assessment” when we tell you to star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OF TODAY’S ACTIVIT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: Introductory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After today’s activity, you will be abl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Identify the 8 causal principles that will guide the activities in this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550"/>
              </a:spcBef>
              <a:buClr>
                <a:srgbClr val="000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bf"/>
                </a:solidFill>
                <a:latin typeface="Arial"/>
              </a:rPr>
              <a:t>Match the causal principle to scenarios about the Earth and environ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PRINCIPLE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28600" y="9907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Gravitational energy, thermal energy and/or chem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rive all movement and change of matter on Ear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A system i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energy in the system is balanc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Matter moves and changes to return a system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needed to break bonds and is released when bonds f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Tempera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a measure of the movement of molecules.  Higher temperature means molecules are moving fa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When molecules move faster,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ns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most substances decreases. Water is an anomaly because liquid water is more dense than 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Buoya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uses materials to rise or fall due to the relative density of materi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. Feedback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accelerate, decelerate, or dampen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1. Gravitational energy, thermal energy and/or chemic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rive all movement and change of matter on Earth. 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4038480" y="6477120"/>
            <a:ext cx="510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us.123rf.com/400wm/400/400/uulgaa/uulgaa0810/uulgaa081000020/3695914-stainless-steel-pot-on-a-gas-stove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876920" y="160020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hemical energy </a:t>
            </a:r>
            <a:r>
              <a:rPr b="0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in natural gas being burned and converted into </a:t>
            </a: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potonstove.jpg"/>
          <p:cNvPicPr/>
          <p:nvPr/>
        </p:nvPicPr>
        <p:blipFill>
          <a:blip r:embed="rId1"/>
          <a:stretch/>
        </p:blipFill>
        <p:spPr>
          <a:xfrm>
            <a:off x="4746600" y="3581280"/>
            <a:ext cx="4397400" cy="2946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0" y="6248520"/>
            <a:ext cx="3657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rolive.org/photo_gallery/photos-skateboarder-7/alex_ollie_skatepark_bordeaux_skate_ouest_tour_09.sized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0" descr="skateboarder.jpg"/>
          <p:cNvPicPr/>
          <p:nvPr/>
        </p:nvPicPr>
        <p:blipFill>
          <a:blip r:embed="rId2"/>
          <a:stretch/>
        </p:blipFill>
        <p:spPr>
          <a:xfrm>
            <a:off x="0" y="3124080"/>
            <a:ext cx="4495680" cy="2989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1"/>
          <p:cNvSpPr/>
          <p:nvPr/>
        </p:nvSpPr>
        <p:spPr>
          <a:xfrm>
            <a:off x="0" y="13716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Gravitational energy</a:t>
            </a:r>
            <a:r>
              <a:rPr b="0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 can be stored (potential) or drive motion towards Earth (kinet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i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ergy in the system is balanced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04920" y="12193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ngs are changing in the system but there is an overall net balanc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What is changing in this picture?  How can this container be in </a:t>
            </a:r>
            <a:r>
              <a:rPr b="1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5181480" y="609588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image.wistatutor.com/content/chemical-equilibrium/dynamic-equilibrium.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dynamic-equilibrium.jpg"/>
          <p:cNvPicPr/>
          <p:nvPr/>
        </p:nvPicPr>
        <p:blipFill>
          <a:blip r:embed="rId1"/>
          <a:stretch/>
        </p:blipFill>
        <p:spPr>
          <a:xfrm>
            <a:off x="5105520" y="1600200"/>
            <a:ext cx="3665520" cy="4038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380880" y="41148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Water is being added to and removed from the container.  If the amount added equals the amount removed, the container i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quilibriu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3. Matter moves and changes to return a system to equilibriu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re are more molecules on one side of a barrier than the other.  The molecules will move until both sides have the same number of molecules, and therefore are at equilib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838080" y="6581880"/>
            <a:ext cx="746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upload.wikimedia.org/wikipedia/commons/thumb/7/72/Diffusion.en.svg/800px-Diffusion.en.svg.p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800px-Diffusion.en.png"/>
          <p:cNvPicPr/>
          <p:nvPr/>
        </p:nvPicPr>
        <p:blipFill>
          <a:blip r:embed="rId1"/>
          <a:stretch/>
        </p:blipFill>
        <p:spPr>
          <a:xfrm>
            <a:off x="838080" y="2398680"/>
            <a:ext cx="746784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4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needed to break bonds and is released when bonds for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80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b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bf"/>
                </a:solidFill>
                <a:latin typeface="Arial"/>
              </a:rPr>
              <a:t>Boiling water requires heat convert liquid water into water vapor (g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57200" y="632448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hatscookingamerica.net/Foto4/BoilingWater.b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BoilingWater.bmp"/>
          <p:cNvPicPr/>
          <p:nvPr/>
        </p:nvPicPr>
        <p:blipFill>
          <a:blip r:embed="rId1"/>
          <a:stretch/>
        </p:blipFill>
        <p:spPr>
          <a:xfrm>
            <a:off x="304920" y="2362320"/>
            <a:ext cx="2989080" cy="3657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eatCool.gif"/>
          <p:cNvPicPr/>
          <p:nvPr/>
        </p:nvPicPr>
        <p:blipFill>
          <a:blip r:embed="rId2"/>
          <a:stretch/>
        </p:blipFill>
        <p:spPr>
          <a:xfrm>
            <a:off x="3621240" y="1219320"/>
            <a:ext cx="4252680" cy="29210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4495680" y="635328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kentchemistry.com/images/links/matter/HeatCool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4038480" y="4572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hase change either use up or release heat energy.  Boiling (vaporization) uses up heat while condensation releases hea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nciple #5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a measure of the movement of molecules.  Higher temperature means molecules are moving faster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0" y="12254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mperature can be thought of as the Kinetic Energy of molecules, or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ad"/>
                </a:solidFill>
                <a:latin typeface="Arial"/>
                <a:ea typeface="Arial"/>
              </a:rPr>
              <a:t>Q. Do molecules move faster in cold or warm a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5181480" y="6334200"/>
            <a:ext cx="396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viamet.gr/user_images/molecules1.j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molecules1.jpg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3402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0" y="56577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 Molecules move faster in warm air because they have m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6:12:18Z</dcterms:created>
  <dc:creator>Julie Libarkin</dc:creator>
  <dc:description/>
  <dc:language>en-US</dc:language>
  <cp:lastModifiedBy>Nicole LaDue</cp:lastModifiedBy>
  <dcterms:modified xsi:type="dcterms:W3CDTF">2011-01-13T21:31:55Z</dcterms:modified>
  <cp:revision>323</cp:revision>
  <dc:subject/>
  <dc:title>PowerPoint Presentation</dc:title>
</cp:coreProperties>
</file>